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8D8F-FADD-439E-AF5D-1714924B3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9DD-292D-4068-825F-01453FD2D866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D534-682B-47DF-B967-D1A7B352071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258F-FFF7-40CF-8B58-1C9F0DB62D9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5E87-E1D6-461C-8F2C-B788A4E1C7D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70D9-524B-4BD7-8D2F-0FCA1CCF062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FF0D-74DB-4AB6-A77C-A684828770A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968B-2251-4009-9E60-5E66BA3F8274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B13-88A3-45BC-969F-A053FEBE9AD7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DFCE-10CC-45BA-B64C-5678A633BA78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35C7-412F-4DE4-85C2-DA334E9CBDB0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40F0-67C5-4F23-BBE8-175ABD24535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080-0AD9-476D-9CDD-AFF20BFDE475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larnavigator.net/history/explorers_history/aztec_warrio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3092-45A7-4424-B05F-EAD466E6904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FD5-30E9-48BD-B07A-8DC99247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8C4-321C-4A73-A828-27F79B8A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30A-8BEE-4BF1-903A-8EC01BC8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BFB-ECDB-4CAD-84AB-722FA06C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C5B-407C-4D26-B0E8-DFCDDCEF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9855-FC3C-4AA3-A00C-7B1A2FDE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C1F-6E90-428C-A3CE-57DE234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CB6-1C79-48BF-8CE8-D18B805A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1AC-C50D-4210-A35D-2F54183C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CF4D-BE66-46EB-BD47-37B87975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767-73CC-42CA-88CB-52292E4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407F-9F24-4429-AA84-903386CB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15A2-8783-4AA2-95C6-153C4C5A9869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Bernard MT Condensed"/>
              </a:rPr>
              <a:t>Dos volcanes y un amor</a:t>
            </a:r>
            <a:endParaRPr b="0" lang="en-US" sz="48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os tres corren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ochiquétzal, furiosa, lanzó una mirada de odio profundo contr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laxcalteca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que la había hecho su esposa diciéndole que su amado guerrero había muerto en la lucha. Llorando su desventura echó a correr por la llanura. El guerrero la vió correr despavorida seguida del marido, y separándose de las filas de los guerreros humillados se lanzó en su persecusión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luch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oda palabra estaba de sobra; el tlaxcalteca tomó e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venablo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javelin) de punta de pedernal que ocultaba bajo la tilma y el azteca esgrimió s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macana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arma azteca) incrustada de dientes de jaguar y de jabalí. Se fueron alejando por el valle y al fin, casi al atardecer, el azteca pudo herir de muerte al artero tlaxcalteca quien huyó hacia su país.</a:t>
            </a: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878200" cy="411480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0" name="Picture 6" descr="178px-Macahuitl"/>
          <p:cNvPicPr/>
          <p:nvPr/>
        </p:nvPicPr>
        <p:blipFill>
          <a:blip r:embed="rId3"/>
          <a:stretch/>
        </p:blipFill>
        <p:spPr>
          <a:xfrm>
            <a:off x="7848720" y="2286000"/>
            <a:ext cx="10843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muerte de la chic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670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l vencedor regresó buscando a su querida Xochiquétzal pero la encontró muerta en mitad del valle. Una mujer como ella no podía vivir soportando la pena y la vergüenza de haber sido de otro hombre, cuando en realidad lo amaba a él. El guerrero azteca se arrodilló y lloró junto a ella, la adornó con bellas flores y quemó copal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809880" y="1487520"/>
            <a:ext cx="4648320" cy="43228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6" name="Picture 6" descr="ixta_popo_02_640.jpg"/>
          <p:cNvPicPr/>
          <p:nvPr/>
        </p:nvPicPr>
        <p:blipFill>
          <a:blip r:embed="rId3"/>
          <a:stretch/>
        </p:blipFill>
        <p:spPr>
          <a:xfrm>
            <a:off x="4927680" y="2743200"/>
            <a:ext cx="42163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creación de los volcan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Y se estremeció la tierra y el relámpago atronó, se anubló el cielo y cayeron piedras de fuego sobre los cinco lagos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 amanecer estaban allí, donde antes era valle, dos hermosas montañ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nevada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una que tenía la forma de una muj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yacent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y otra alta, con la forma del guerrero aztec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arrodillado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con su penacho humeante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os dos volcan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520" y="1980720"/>
            <a:ext cx="5334120" cy="487692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esde entonces, los dos volcanes recibieron los nombres de Ixtacíhuatl, que quiere decir "mujer dormida", y Popocatéptl, "montaña que humea". El cobarde y engañador tlaxcalteca fue a morir desorientado cerca de su tierra, haciéndose montaña también, con el nombre de Citlaltépetl o "cerro de la estrella" donde desde lejos vigila el sueño de los dos amantes a quienes jamás podrá separar.</a:t>
            </a: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115" name="Picture 8" descr="PopoPh3G"/>
          <p:cNvPicPr/>
          <p:nvPr/>
        </p:nvPicPr>
        <p:blipFill>
          <a:blip r:embed="rId2"/>
          <a:stretch/>
        </p:blipFill>
        <p:spPr>
          <a:xfrm>
            <a:off x="685800" y="1981080"/>
            <a:ext cx="2971800" cy="198144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16" name="Picture 10" descr="poporupt"/>
          <p:cNvPicPr/>
          <p:nvPr/>
        </p:nvPicPr>
        <p:blipFill>
          <a:blip r:embed="rId3"/>
          <a:stretch/>
        </p:blipFill>
        <p:spPr>
          <a:xfrm>
            <a:off x="685800" y="4114800"/>
            <a:ext cx="3017880" cy="19810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4" name="Picture 2" descr="PopoPh3G"/>
          <p:cNvPicPr/>
          <p:nvPr/>
        </p:nvPicPr>
        <p:blipFill>
          <a:blip r:embed="rId2"/>
          <a:stretch/>
        </p:blipFill>
        <p:spPr>
          <a:xfrm>
            <a:off x="380880" y="83808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553440" cy="53352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mujer dormid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8" name="Picture 2" descr="izta"/>
          <p:cNvPicPr/>
          <p:nvPr/>
        </p:nvPicPr>
        <p:blipFill>
          <a:blip r:embed="rId2"/>
          <a:stretch/>
        </p:blipFill>
        <p:spPr>
          <a:xfrm>
            <a:off x="0" y="24624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1" name="Picture 3" descr="poporupt"/>
          <p:cNvPicPr/>
          <p:nvPr/>
        </p:nvPicPr>
        <p:blipFill>
          <a:blip r:embed="rId2"/>
          <a:stretch/>
        </p:blipFill>
        <p:spPr>
          <a:xfrm>
            <a:off x="0" y="0"/>
            <a:ext cx="5299200" cy="347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popofromiztac"/>
          <p:cNvPicPr/>
          <p:nvPr/>
        </p:nvPicPr>
        <p:blipFill>
          <a:blip r:embed="rId3"/>
          <a:stretch/>
        </p:blipFill>
        <p:spPr>
          <a:xfrm>
            <a:off x="4729320" y="0"/>
            <a:ext cx="4414680" cy="609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opopeak"/>
          <p:cNvPicPr/>
          <p:nvPr/>
        </p:nvPicPr>
        <p:blipFill>
          <a:blip r:embed="rId4"/>
          <a:stretch/>
        </p:blipFill>
        <p:spPr>
          <a:xfrm>
            <a:off x="990720" y="3962520"/>
            <a:ext cx="2851200" cy="196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La montaña que humea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xtacíhuatl y Popocatépt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yenda náhuatl, mexica o azteca. México.</a:t>
            </a:r>
            <a:br>
              <a:rPr sz="2800"/>
            </a:b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5181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l ejército del imperio azteca regresaba de las guerras floridas. Pero no había música ni sonidos de fiesta. No se olía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copal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en los templos, l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pebetero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incense burner) del dios cojo de la guerra, Tezcatlipoca, se hallaban apagado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809880" cy="319896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4343400" cy="54100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s estandartes estaban caídos y las ropas de los má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destacado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outstanding) guerreros eran unos jirones e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sangr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tados. El consejo de los Yopica, los viejos y sabios maestros del arte de la estrategia, aguardaban ansiosos la explicación de la vergonzosa derrota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74" name="Picture 7" descr="sacrificios_guerra_florida"/>
          <p:cNvPicPr/>
          <p:nvPr/>
        </p:nvPicPr>
        <p:blipFill>
          <a:blip r:embed="rId2"/>
          <a:stretch/>
        </p:blipFill>
        <p:spPr>
          <a:xfrm>
            <a:off x="5657760" y="1066680"/>
            <a:ext cx="2617920" cy="289584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10" descr="sacrificio_corazon"/>
          <p:cNvPicPr/>
          <p:nvPr/>
        </p:nvPicPr>
        <p:blipFill>
          <a:blip r:embed="rId3"/>
          <a:stretch/>
        </p:blipFill>
        <p:spPr>
          <a:xfrm>
            <a:off x="5205240" y="4114800"/>
            <a:ext cx="3557880" cy="26146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s tropas vuelven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572000" cy="518184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acía ya dos ciclos lunares que l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huestes(tropas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habían partido hacia las tierras de los Olmecas, Xicalancas y Zapotecas para añadirlas al señorío mexica. Se pensaba ya en un asentamiento de conquista y sin embargo, a pesar de todo su esfuerzo, su valor y conocimientos, los guerreros volvían menguados en número con sus armas rotas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685800" y="2065320"/>
            <a:ext cx="3809880" cy="39448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El amante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 frente de esta tropa triste venía un guerrero, que a pesar de sus ropas desgarradas, conservaba su gallardía, su altivez y el orgullo de su estirpe(lineage)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648320" y="2117880"/>
            <a:ext cx="3809880" cy="384012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6" name="Picture 6" descr="aztec_warrior.jpg"/>
          <p:cNvPicPr/>
          <p:nvPr/>
        </p:nvPicPr>
        <p:blipFill>
          <a:blip r:embed="rId3"/>
          <a:stretch/>
        </p:blipFill>
        <p:spPr>
          <a:xfrm>
            <a:off x="4843440" y="1730520"/>
            <a:ext cx="32338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llegada al pueblo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s hombres ocultaban sus rostros y las llorosas mujeres escondían a los niños para que n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fuera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testigos del vergonzoso retorno. Sólo una mujer, Xochiquétzal, no lloraba, miraba con asombro a aquel guerrero que altivo y sereno quería demostrar que había luchado y perdid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en buena li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air fight) contra un ejército mucho más numeroso. Y entonces palideció al sentir la mirada del guerrero sobre ella, pues reconoció en él a su amado, al hombre a quien le había jurado amor eterno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2:49:07Z</dcterms:created>
  <dc:creator>Thayer Academy</dc:creator>
  <dc:description/>
  <dc:language>en-US</dc:language>
  <cp:lastModifiedBy>Thayer Academy</cp:lastModifiedBy>
  <dcterms:modified xsi:type="dcterms:W3CDTF">2009-05-21T14:02:36Z</dcterms:modified>
  <cp:revision>11</cp:revision>
  <dc:subject/>
  <dc:title>Dos volcanes y un amor</dc:title>
</cp:coreProperties>
</file>